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97" spc="-1" strike="noStrike">
                <a:solidFill>
                  <a:srgbClr val="000000"/>
                </a:solidFill>
                <a:latin typeface="Arial"/>
              </a:defRPr>
            </a:pPr>
            <a:r>
              <a:rPr b="1" sz="1497" spc="-1" strike="noStrike">
                <a:solidFill>
                  <a:srgbClr val="000000"/>
                </a:solidFill>
                <a:latin typeface="Arial"/>
              </a:rPr>
              <a:t>MATUTINO</a:t>
            </a:r>
          </a:p>
        </c:rich>
      </c:tx>
      <c:layout>
        <c:manualLayout>
          <c:xMode val="edge"/>
          <c:yMode val="edge"/>
          <c:x val="0.438069419136927"/>
          <c:y val="0.020372453443319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02262121684"/>
          <c:y val="0.209223847019123"/>
          <c:w val="0.959912892760322"/>
          <c:h val="0.769903762029746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3</c:v>
                </c:pt>
                <c:pt idx="1">
                  <c:v>0</c:v>
                </c:pt>
                <c:pt idx="2">
                  <c:v>1</c:v>
                </c:pt>
                <c:pt idx="3">
                  <c:v>1</c:v>
                </c:pt>
                <c:pt idx="4">
                  <c:v>6</c:v>
                </c:pt>
                <c:pt idx="5">
                  <c:v>0</c:v>
                </c:pt>
                <c:pt idx="6">
                  <c:v>1</c:v>
                </c:pt>
                <c:pt idx="7">
                  <c:v>5</c:v>
                </c:pt>
                <c:pt idx="8">
                  <c:v>0</c:v>
                </c:pt>
                <c:pt idx="9">
                  <c:v>5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5.30982367758186</c:v>
                </c:pt>
                <c:pt idx="1">
                  <c:v>4.79596977329975</c:v>
                </c:pt>
                <c:pt idx="2">
                  <c:v>12.8463476070529</c:v>
                </c:pt>
                <c:pt idx="3">
                  <c:v>11.3047858942065</c:v>
                </c:pt>
                <c:pt idx="4">
                  <c:v>7.02267002518892</c:v>
                </c:pt>
                <c:pt idx="5">
                  <c:v>7.02267002518892</c:v>
                </c:pt>
                <c:pt idx="6">
                  <c:v>4.45340050377834</c:v>
                </c:pt>
                <c:pt idx="7">
                  <c:v>5.65239294710327</c:v>
                </c:pt>
                <c:pt idx="8">
                  <c:v>1.37027707808564</c:v>
                </c:pt>
                <c:pt idx="9">
                  <c:v>1.71284634760705</c:v>
                </c:pt>
                <c:pt idx="10">
                  <c:v>1.71284634760705</c:v>
                </c:pt>
                <c:pt idx="11">
                  <c:v>1.37027707808564</c:v>
                </c:pt>
                <c:pt idx="12">
                  <c:v>0.685138539042821</c:v>
                </c:pt>
                <c:pt idx="13">
                  <c:v>0.685138539042821</c:v>
                </c:pt>
                <c:pt idx="14">
                  <c:v>1.54156171284635</c:v>
                </c:pt>
                <c:pt idx="15">
                  <c:v>0.513853904282116</c:v>
                </c:pt>
              </c:numCache>
            </c:numRef>
          </c:val>
        </c:ser>
        <c:gapWidth val="100"/>
        <c:overlap val="0"/>
        <c:axId val="7319091"/>
        <c:axId val="53345962"/>
      </c:barChart>
      <c:catAx>
        <c:axId val="7319091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345962"/>
        <c:crossesAt val="0"/>
        <c:auto val="1"/>
        <c:lblAlgn val="ctr"/>
        <c:lblOffset val="100"/>
        <c:noMultiLvlLbl val="0"/>
      </c:catAx>
      <c:valAx>
        <c:axId val="533459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19091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95" spc="-1" strike="noStrike">
                <a:solidFill>
                  <a:srgbClr val="000000"/>
                </a:solidFill>
                <a:latin typeface="Arial"/>
              </a:defRPr>
            </a:pPr>
            <a:r>
              <a:rPr b="1" sz="1495" spc="-1" strike="noStrike">
                <a:solidFill>
                  <a:srgbClr val="000000"/>
                </a:solidFill>
                <a:latin typeface="Arial"/>
              </a:rPr>
              <a:t>MATUTINO</a:t>
            </a:r>
          </a:p>
        </c:rich>
      </c:tx>
      <c:layout>
        <c:manualLayout>
          <c:xMode val="edge"/>
          <c:yMode val="edge"/>
          <c:x val="0.438158304075374"/>
          <c:y val="0.020372453443319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02262121684"/>
          <c:y val="0.209223847019123"/>
          <c:w val="0.959957335229545"/>
          <c:h val="0.769903762029746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0</c:v>
                </c:pt>
                <c:pt idx="2">
                  <c:v>0</c:v>
                </c:pt>
                <c:pt idx="3">
                  <c:v>1</c:v>
                </c:pt>
                <c:pt idx="4">
                  <c:v>2</c:v>
                </c:pt>
                <c:pt idx="5">
                  <c:v>5</c:v>
                </c:pt>
                <c:pt idx="6">
                  <c:v>0</c:v>
                </c:pt>
                <c:pt idx="7">
                  <c:v>0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4.84130982367758</c:v>
                </c:pt>
                <c:pt idx="1">
                  <c:v>4.3727959697733</c:v>
                </c:pt>
                <c:pt idx="2">
                  <c:v>11.7128463476071</c:v>
                </c:pt>
                <c:pt idx="3">
                  <c:v>10.3073047858942</c:v>
                </c:pt>
                <c:pt idx="4">
                  <c:v>6.40302267002519</c:v>
                </c:pt>
                <c:pt idx="5">
                  <c:v>6.40302267002519</c:v>
                </c:pt>
                <c:pt idx="6">
                  <c:v>4.06045340050378</c:v>
                </c:pt>
                <c:pt idx="7">
                  <c:v>5.1536523929471</c:v>
                </c:pt>
                <c:pt idx="8">
                  <c:v>1.24937027707809</c:v>
                </c:pt>
                <c:pt idx="9">
                  <c:v>1.56171284634761</c:v>
                </c:pt>
                <c:pt idx="10">
                  <c:v>1.56171284634761</c:v>
                </c:pt>
                <c:pt idx="11">
                  <c:v>1.24937027707809</c:v>
                </c:pt>
                <c:pt idx="12">
                  <c:v>0.624685138539043</c:v>
                </c:pt>
                <c:pt idx="13">
                  <c:v>0.624685138539043</c:v>
                </c:pt>
                <c:pt idx="14">
                  <c:v>1.40554156171285</c:v>
                </c:pt>
                <c:pt idx="15">
                  <c:v>0.468513853904282</c:v>
                </c:pt>
              </c:numCache>
            </c:numRef>
          </c:val>
        </c:ser>
        <c:gapWidth val="100"/>
        <c:overlap val="0"/>
        <c:axId val="85714086"/>
        <c:axId val="28629880"/>
      </c:barChart>
      <c:catAx>
        <c:axId val="85714086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629880"/>
        <c:crossesAt val="0"/>
        <c:auto val="1"/>
        <c:lblAlgn val="ctr"/>
        <c:lblOffset val="100"/>
        <c:noMultiLvlLbl val="0"/>
      </c:catAx>
      <c:valAx>
        <c:axId val="286298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714086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94" spc="-1" strike="noStrike">
                <a:solidFill>
                  <a:srgbClr val="000000"/>
                </a:solidFill>
                <a:latin typeface="Arial"/>
              </a:defRPr>
            </a:pPr>
            <a:r>
              <a:rPr b="1" sz="1494" spc="-1" strike="noStrike">
                <a:solidFill>
                  <a:srgbClr val="000000"/>
                </a:solidFill>
                <a:latin typeface="Arial"/>
              </a:rPr>
              <a:t>MATUTINO</a:t>
            </a:r>
          </a:p>
        </c:rich>
      </c:tx>
      <c:layout>
        <c:manualLayout>
          <c:xMode val="edge"/>
          <c:yMode val="edge"/>
          <c:x val="0.438202746544598"/>
          <c:y val="0.020372453443319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02262121684"/>
          <c:y val="0.209223847019123"/>
          <c:w val="0.959912892760322"/>
          <c:h val="0.769903762029746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3</c:v>
                </c:pt>
                <c:pt idx="1">
                  <c:v>3</c:v>
                </c:pt>
                <c:pt idx="2">
                  <c:v>1</c:v>
                </c:pt>
                <c:pt idx="3">
                  <c:v>1</c:v>
                </c:pt>
                <c:pt idx="4">
                  <c:v>11</c:v>
                </c:pt>
                <c:pt idx="5">
                  <c:v>5</c:v>
                </c:pt>
                <c:pt idx="6">
                  <c:v>0</c:v>
                </c:pt>
                <c:pt idx="7">
                  <c:v>6</c:v>
                </c:pt>
                <c:pt idx="8">
                  <c:v>0</c:v>
                </c:pt>
                <c:pt idx="9">
                  <c:v>0</c:v>
                </c:pt>
                <c:pt idx="10">
                  <c:v>1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5.62216624685139</c:v>
                </c:pt>
                <c:pt idx="1">
                  <c:v>5.07808564231738</c:v>
                </c:pt>
                <c:pt idx="2">
                  <c:v>13.6020151133501</c:v>
                </c:pt>
                <c:pt idx="3">
                  <c:v>11.9697732997481</c:v>
                </c:pt>
                <c:pt idx="4">
                  <c:v>7.43576826196474</c:v>
                </c:pt>
                <c:pt idx="5">
                  <c:v>7.43576826196474</c:v>
                </c:pt>
                <c:pt idx="6">
                  <c:v>4.71536523929471</c:v>
                </c:pt>
                <c:pt idx="7">
                  <c:v>5.98488664987406</c:v>
                </c:pt>
                <c:pt idx="8">
                  <c:v>1.45088161209068</c:v>
                </c:pt>
                <c:pt idx="9">
                  <c:v>1.81360201511335</c:v>
                </c:pt>
                <c:pt idx="10">
                  <c:v>1.81360201511335</c:v>
                </c:pt>
                <c:pt idx="11">
                  <c:v>1.45088161209068</c:v>
                </c:pt>
                <c:pt idx="12">
                  <c:v>0.72544080604534</c:v>
                </c:pt>
                <c:pt idx="13">
                  <c:v>0.72544080604534</c:v>
                </c:pt>
                <c:pt idx="14">
                  <c:v>1.63224181360202</c:v>
                </c:pt>
                <c:pt idx="15">
                  <c:v>0.544080604534005</c:v>
                </c:pt>
              </c:numCache>
            </c:numRef>
          </c:val>
        </c:ser>
        <c:gapWidth val="100"/>
        <c:overlap val="0"/>
        <c:axId val="25646244"/>
        <c:axId val="76393668"/>
      </c:barChart>
      <c:catAx>
        <c:axId val="25646244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393668"/>
        <c:crossesAt val="0"/>
        <c:auto val="1"/>
        <c:lblAlgn val="ctr"/>
        <c:lblOffset val="100"/>
        <c:noMultiLvlLbl val="0"/>
      </c:catAx>
      <c:valAx>
        <c:axId val="763936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646244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500" spc="-1" strike="noStrike">
                <a:solidFill>
                  <a:srgbClr val="000000"/>
                </a:solidFill>
                <a:latin typeface="Arial"/>
              </a:defRPr>
            </a:pPr>
            <a:r>
              <a:rPr b="1" sz="1500" spc="-1" strike="noStrike">
                <a:solidFill>
                  <a:srgbClr val="000000"/>
                </a:solidFill>
                <a:latin typeface="Arial"/>
              </a:rPr>
              <a:t>VESPERTINO</a:t>
            </a:r>
          </a:p>
        </c:rich>
      </c:tx>
      <c:layout>
        <c:manualLayout>
          <c:xMode val="edge"/>
          <c:yMode val="edge"/>
          <c:x val="0.424345898004435"/>
          <c:y val="0.020372453443319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2"/>
          <c:y val="0.209223847019123"/>
          <c:w val="0.959911308203991"/>
          <c:h val="0.769903762029746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3</c:v>
                </c:pt>
                <c:pt idx="1">
                  <c:v>3</c:v>
                </c:pt>
                <c:pt idx="2">
                  <c:v>12</c:v>
                </c:pt>
                <c:pt idx="3">
                  <c:v>3</c:v>
                </c:pt>
                <c:pt idx="4">
                  <c:v>0</c:v>
                </c:pt>
                <c:pt idx="5">
                  <c:v>1</c:v>
                </c:pt>
                <c:pt idx="6">
                  <c:v>1</c:v>
                </c:pt>
                <c:pt idx="7">
                  <c:v>1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4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6.45423728813559</c:v>
                </c:pt>
                <c:pt idx="1">
                  <c:v>5.30169491525424</c:v>
                </c:pt>
                <c:pt idx="2">
                  <c:v>14.5220338983051</c:v>
                </c:pt>
                <c:pt idx="3">
                  <c:v>13.1389830508475</c:v>
                </c:pt>
                <c:pt idx="4">
                  <c:v>6.91525423728814</c:v>
                </c:pt>
                <c:pt idx="5">
                  <c:v>6.91525423728814</c:v>
                </c:pt>
                <c:pt idx="6">
                  <c:v>3.2271186440678</c:v>
                </c:pt>
                <c:pt idx="7">
                  <c:v>6.45423728813559</c:v>
                </c:pt>
                <c:pt idx="8">
                  <c:v>0.461016949152542</c:v>
                </c:pt>
                <c:pt idx="9">
                  <c:v>0.691525423728813</c:v>
                </c:pt>
                <c:pt idx="10">
                  <c:v>0.461016949152542</c:v>
                </c:pt>
                <c:pt idx="11">
                  <c:v>0.461016949152542</c:v>
                </c:pt>
                <c:pt idx="12">
                  <c:v>0.230508474576271</c:v>
                </c:pt>
                <c:pt idx="13">
                  <c:v>0.230508474576271</c:v>
                </c:pt>
                <c:pt idx="14">
                  <c:v>1.38305084745763</c:v>
                </c:pt>
                <c:pt idx="15">
                  <c:v>1.15254237288136</c:v>
                </c:pt>
              </c:numCache>
            </c:numRef>
          </c:val>
        </c:ser>
        <c:gapWidth val="100"/>
        <c:overlap val="0"/>
        <c:axId val="46131251"/>
        <c:axId val="16796321"/>
      </c:barChart>
      <c:catAx>
        <c:axId val="46131251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796321"/>
        <c:crossesAt val="0"/>
        <c:auto val="1"/>
        <c:lblAlgn val="ctr"/>
        <c:lblOffset val="100"/>
        <c:noMultiLvlLbl val="0"/>
      </c:catAx>
      <c:valAx>
        <c:axId val="167963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131251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95" spc="-1" strike="noStrike">
                <a:solidFill>
                  <a:srgbClr val="000000"/>
                </a:solidFill>
                <a:latin typeface="Arial"/>
              </a:defRPr>
            </a:pPr>
            <a:r>
              <a:rPr b="1" sz="1495" spc="-1" strike="noStrike">
                <a:solidFill>
                  <a:srgbClr val="000000"/>
                </a:solidFill>
                <a:latin typeface="Arial"/>
              </a:rPr>
              <a:t>VESPERTINO</a:t>
            </a:r>
          </a:p>
        </c:rich>
      </c:tx>
      <c:layout>
        <c:manualLayout>
          <c:xMode val="edge"/>
          <c:yMode val="edge"/>
          <c:x val="0.424425581085285"/>
          <c:y val="0.020372453443319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02262121684"/>
          <c:y val="0.209223847019123"/>
          <c:w val="0.959957335229545"/>
          <c:h val="0.769903762029746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3</c:v>
                </c:pt>
                <c:pt idx="1">
                  <c:v>2</c:v>
                </c:pt>
                <c:pt idx="2">
                  <c:v>8</c:v>
                </c:pt>
                <c:pt idx="3">
                  <c:v>7</c:v>
                </c:pt>
                <c:pt idx="4">
                  <c:v>0</c:v>
                </c:pt>
                <c:pt idx="5">
                  <c:v>0</c:v>
                </c:pt>
                <c:pt idx="6">
                  <c:v>0</c:v>
                </c:pt>
                <c:pt idx="7">
                  <c:v>0</c:v>
                </c:pt>
                <c:pt idx="8">
                  <c:v>1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6.45423728813559</c:v>
                </c:pt>
                <c:pt idx="1">
                  <c:v>5.30169491525424</c:v>
                </c:pt>
                <c:pt idx="2">
                  <c:v>14.5220338983051</c:v>
                </c:pt>
                <c:pt idx="3">
                  <c:v>13.1389830508475</c:v>
                </c:pt>
                <c:pt idx="4">
                  <c:v>6.91525423728814</c:v>
                </c:pt>
                <c:pt idx="5">
                  <c:v>6.91525423728814</c:v>
                </c:pt>
                <c:pt idx="6">
                  <c:v>3.2271186440678</c:v>
                </c:pt>
                <c:pt idx="7">
                  <c:v>6.45423728813559</c:v>
                </c:pt>
                <c:pt idx="8">
                  <c:v>0.461016949152542</c:v>
                </c:pt>
                <c:pt idx="9">
                  <c:v>0.691525423728813</c:v>
                </c:pt>
                <c:pt idx="10">
                  <c:v>0.461016949152542</c:v>
                </c:pt>
                <c:pt idx="11">
                  <c:v>0.461016949152542</c:v>
                </c:pt>
                <c:pt idx="12">
                  <c:v>0.230508474576271</c:v>
                </c:pt>
                <c:pt idx="13">
                  <c:v>0.230508474576271</c:v>
                </c:pt>
                <c:pt idx="14">
                  <c:v>1.38305084745763</c:v>
                </c:pt>
                <c:pt idx="15">
                  <c:v>1.15254237288136</c:v>
                </c:pt>
              </c:numCache>
            </c:numRef>
          </c:val>
        </c:ser>
        <c:gapWidth val="100"/>
        <c:overlap val="0"/>
        <c:axId val="82726297"/>
        <c:axId val="81180013"/>
      </c:barChart>
      <c:catAx>
        <c:axId val="82726297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180013"/>
        <c:crossesAt val="0"/>
        <c:auto val="1"/>
        <c:lblAlgn val="ctr"/>
        <c:lblOffset val="100"/>
        <c:noMultiLvlLbl val="0"/>
      </c:catAx>
      <c:valAx>
        <c:axId val="811800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726297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94" spc="-1" strike="noStrike">
                <a:solidFill>
                  <a:srgbClr val="000000"/>
                </a:solidFill>
                <a:latin typeface="Arial"/>
              </a:defRPr>
            </a:pPr>
            <a:r>
              <a:rPr b="1" sz="1494" spc="-1" strike="noStrike">
                <a:solidFill>
                  <a:srgbClr val="000000"/>
                </a:solidFill>
                <a:latin typeface="Arial"/>
              </a:rPr>
              <a:t>VESPERTINO</a:t>
            </a:r>
          </a:p>
        </c:rich>
      </c:tx>
      <c:layout>
        <c:manualLayout>
          <c:xMode val="edge"/>
          <c:yMode val="edge"/>
          <c:x val="0.424470023554509"/>
          <c:y val="0.020372453443319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02262121684"/>
          <c:y val="0.209223847019123"/>
          <c:w val="0.959912892760322"/>
          <c:h val="0.769903762029746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3</c:v>
                </c:pt>
                <c:pt idx="1">
                  <c:v>2</c:v>
                </c:pt>
                <c:pt idx="2">
                  <c:v>7</c:v>
                </c:pt>
                <c:pt idx="3">
                  <c:v>4</c:v>
                </c:pt>
                <c:pt idx="4">
                  <c:v>0</c:v>
                </c:pt>
                <c:pt idx="5">
                  <c:v>2</c:v>
                </c:pt>
                <c:pt idx="6">
                  <c:v>0</c:v>
                </c:pt>
                <c:pt idx="7">
                  <c:v>3</c:v>
                </c:pt>
                <c:pt idx="8">
                  <c:v>0</c:v>
                </c:pt>
                <c:pt idx="9">
                  <c:v>1</c:v>
                </c:pt>
                <c:pt idx="10">
                  <c:v>1</c:v>
                </c:pt>
                <c:pt idx="11">
                  <c:v>2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6.83389830508474</c:v>
                </c:pt>
                <c:pt idx="1">
                  <c:v>5.6135593220339</c:v>
                </c:pt>
                <c:pt idx="2">
                  <c:v>15.3762711864407</c:v>
                </c:pt>
                <c:pt idx="3">
                  <c:v>13.9118644067797</c:v>
                </c:pt>
                <c:pt idx="4">
                  <c:v>7.32203389830508</c:v>
                </c:pt>
                <c:pt idx="5">
                  <c:v>7.32203389830508</c:v>
                </c:pt>
                <c:pt idx="6">
                  <c:v>3.41694915254237</c:v>
                </c:pt>
                <c:pt idx="7">
                  <c:v>6.83389830508475</c:v>
                </c:pt>
                <c:pt idx="8">
                  <c:v>0.488135593220339</c:v>
                </c:pt>
                <c:pt idx="9">
                  <c:v>0.732203389830508</c:v>
                </c:pt>
                <c:pt idx="10">
                  <c:v>0.488135593220339</c:v>
                </c:pt>
                <c:pt idx="11">
                  <c:v>0.488135593220339</c:v>
                </c:pt>
                <c:pt idx="12">
                  <c:v>0.244067796610169</c:v>
                </c:pt>
                <c:pt idx="13">
                  <c:v>0.244067796610169</c:v>
                </c:pt>
                <c:pt idx="14">
                  <c:v>1.46440677966102</c:v>
                </c:pt>
                <c:pt idx="15">
                  <c:v>1.22033898305085</c:v>
                </c:pt>
              </c:numCache>
            </c:numRef>
          </c:val>
        </c:ser>
        <c:gapWidth val="100"/>
        <c:overlap val="0"/>
        <c:axId val="53672328"/>
        <c:axId val="28310530"/>
      </c:barChart>
      <c:catAx>
        <c:axId val="53672328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310530"/>
        <c:crossesAt val="0"/>
        <c:auto val="1"/>
        <c:lblAlgn val="ctr"/>
        <c:lblOffset val="100"/>
        <c:noMultiLvlLbl val="0"/>
      </c:catAx>
      <c:valAx>
        <c:axId val="283105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672328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97" spc="-1" strike="noStrike">
                <a:solidFill>
                  <a:srgbClr val="000000"/>
                </a:solidFill>
                <a:latin typeface="Arial"/>
              </a:defRPr>
            </a:pPr>
            <a:r>
              <a:rPr b="1" sz="1497" spc="-1" strike="noStrike">
                <a:solidFill>
                  <a:srgbClr val="000000"/>
                </a:solidFill>
                <a:latin typeface="Arial"/>
              </a:rPr>
              <a:t>NOTURNO</a:t>
            </a:r>
          </a:p>
        </c:rich>
      </c:tx>
      <c:layout>
        <c:manualLayout>
          <c:xMode val="edge"/>
          <c:yMode val="edge"/>
          <c:x val="0.440958179636461"/>
          <c:y val="0.020372453443319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02262121684"/>
          <c:y val="0.209223847019123"/>
          <c:w val="0.959912892760322"/>
          <c:h val="0.769903762029746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6</c:v>
                </c:pt>
                <c:pt idx="2">
                  <c:v>4</c:v>
                </c:pt>
                <c:pt idx="3">
                  <c:v>3</c:v>
                </c:pt>
                <c:pt idx="4">
                  <c:v>2</c:v>
                </c:pt>
                <c:pt idx="5">
                  <c:v>0</c:v>
                </c:pt>
                <c:pt idx="6">
                  <c:v>0</c:v>
                </c:pt>
                <c:pt idx="7">
                  <c:v>0</c:v>
                </c:pt>
                <c:pt idx="8">
                  <c:v>0</c:v>
                </c:pt>
                <c:pt idx="9">
                  <c:v>9</c:v>
                </c:pt>
                <c:pt idx="10">
                  <c:v>6</c:v>
                </c:pt>
                <c:pt idx="11">
                  <c:v>8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2.72</c:v>
                </c:pt>
                <c:pt idx="1">
                  <c:v>2.72</c:v>
                </c:pt>
                <c:pt idx="2">
                  <c:v>8.16</c:v>
                </c:pt>
                <c:pt idx="3">
                  <c:v>8.16</c:v>
                </c:pt>
                <c:pt idx="4">
                  <c:v>5.44</c:v>
                </c:pt>
                <c:pt idx="5">
                  <c:v>5.44</c:v>
                </c:pt>
                <c:pt idx="6">
                  <c:v>5.44</c:v>
                </c:pt>
                <c:pt idx="7">
                  <c:v>0</c:v>
                </c:pt>
                <c:pt idx="8">
                  <c:v>5.44</c:v>
                </c:pt>
                <c:pt idx="9">
                  <c:v>6.8</c:v>
                </c:pt>
                <c:pt idx="10">
                  <c:v>6.8</c:v>
                </c:pt>
                <c:pt idx="11">
                  <c:v>5.44</c:v>
                </c:pt>
                <c:pt idx="12">
                  <c:v>4.08</c:v>
                </c:pt>
                <c:pt idx="13">
                  <c:v>1.36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94914664"/>
        <c:axId val="71949254"/>
      </c:barChart>
      <c:catAx>
        <c:axId val="94914664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949254"/>
        <c:crossesAt val="0"/>
        <c:auto val="1"/>
        <c:lblAlgn val="ctr"/>
        <c:lblOffset val="100"/>
        <c:noMultiLvlLbl val="0"/>
      </c:catAx>
      <c:valAx>
        <c:axId val="719492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914664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95" spc="-1" strike="noStrike">
                <a:solidFill>
                  <a:srgbClr val="000000"/>
                </a:solidFill>
                <a:latin typeface="Arial"/>
              </a:defRPr>
            </a:pPr>
            <a:r>
              <a:rPr b="1" sz="1495" spc="-1" strike="noStrike">
                <a:solidFill>
                  <a:srgbClr val="000000"/>
                </a:solidFill>
                <a:latin typeface="Arial"/>
              </a:rPr>
              <a:t>NOTURNO</a:t>
            </a:r>
          </a:p>
        </c:rich>
      </c:tx>
      <c:layout>
        <c:manualLayout>
          <c:xMode val="edge"/>
          <c:yMode val="edge"/>
          <c:x val="0.441047064574908"/>
          <c:y val="0.020372453443319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02262121684"/>
          <c:y val="0.209223847019123"/>
          <c:w val="0.959957335229545"/>
          <c:h val="0.769903762029746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2</c:v>
                </c:pt>
                <c:pt idx="2">
                  <c:v>0</c:v>
                </c:pt>
                <c:pt idx="3">
                  <c:v>3</c:v>
                </c:pt>
                <c:pt idx="4">
                  <c:v>0</c:v>
                </c:pt>
                <c:pt idx="5">
                  <c:v>0</c:v>
                </c:pt>
                <c:pt idx="6">
                  <c:v>0</c:v>
                </c:pt>
                <c:pt idx="7">
                  <c:v>0</c:v>
                </c:pt>
                <c:pt idx="8">
                  <c:v>0</c:v>
                </c:pt>
                <c:pt idx="9">
                  <c:v>6</c:v>
                </c:pt>
                <c:pt idx="10">
                  <c:v>3</c:v>
                </c:pt>
                <c:pt idx="11">
                  <c:v>7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2.48</c:v>
                </c:pt>
                <c:pt idx="1">
                  <c:v>2.48</c:v>
                </c:pt>
                <c:pt idx="2">
                  <c:v>7.44</c:v>
                </c:pt>
                <c:pt idx="3">
                  <c:v>7.44</c:v>
                </c:pt>
                <c:pt idx="4">
                  <c:v>4.96</c:v>
                </c:pt>
                <c:pt idx="5">
                  <c:v>4.96</c:v>
                </c:pt>
                <c:pt idx="6">
                  <c:v>4.96</c:v>
                </c:pt>
                <c:pt idx="7">
                  <c:v>0</c:v>
                </c:pt>
                <c:pt idx="8">
                  <c:v>4.96</c:v>
                </c:pt>
                <c:pt idx="9">
                  <c:v>6.2</c:v>
                </c:pt>
                <c:pt idx="10">
                  <c:v>6.2</c:v>
                </c:pt>
                <c:pt idx="11">
                  <c:v>4.96</c:v>
                </c:pt>
                <c:pt idx="12">
                  <c:v>3.72</c:v>
                </c:pt>
                <c:pt idx="13">
                  <c:v>1.24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80326854"/>
        <c:axId val="24925194"/>
      </c:barChart>
      <c:catAx>
        <c:axId val="80326854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925194"/>
        <c:crossesAt val="0"/>
        <c:auto val="1"/>
        <c:lblAlgn val="ctr"/>
        <c:lblOffset val="100"/>
        <c:noMultiLvlLbl val="0"/>
      </c:catAx>
      <c:valAx>
        <c:axId val="249251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326854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94" spc="-1" strike="noStrike">
                <a:solidFill>
                  <a:srgbClr val="000000"/>
                </a:solidFill>
                <a:latin typeface="Arial"/>
              </a:defRPr>
            </a:pPr>
            <a:r>
              <a:rPr b="1" sz="1494" spc="-1" strike="noStrike">
                <a:solidFill>
                  <a:srgbClr val="000000"/>
                </a:solidFill>
                <a:latin typeface="Arial"/>
              </a:rPr>
              <a:t>NOTURNO</a:t>
            </a:r>
          </a:p>
        </c:rich>
      </c:tx>
      <c:layout>
        <c:manualLayout>
          <c:xMode val="edge"/>
          <c:yMode val="edge"/>
          <c:x val="0.441091507044131"/>
          <c:y val="0.020372453443319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02262121684"/>
          <c:y val="0.209223847019123"/>
          <c:w val="0.959912892760322"/>
          <c:h val="0.769903762029746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3</c:v>
                </c:pt>
                <c:pt idx="2">
                  <c:v>0</c:v>
                </c:pt>
                <c:pt idx="3">
                  <c:v>0</c:v>
                </c:pt>
                <c:pt idx="4">
                  <c:v>0</c:v>
                </c:pt>
                <c:pt idx="5">
                  <c:v>0</c:v>
                </c:pt>
                <c:pt idx="6">
                  <c:v>0</c:v>
                </c:pt>
                <c:pt idx="7">
                  <c:v>0</c:v>
                </c:pt>
                <c:pt idx="8">
                  <c:v>0</c:v>
                </c:pt>
                <c:pt idx="9">
                  <c:v>4</c:v>
                </c:pt>
                <c:pt idx="10">
                  <c:v>6</c:v>
                </c:pt>
                <c:pt idx="11">
                  <c:v>9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1.44</c:v>
                </c:pt>
                <c:pt idx="1">
                  <c:v>1.44</c:v>
                </c:pt>
                <c:pt idx="2">
                  <c:v>4.32</c:v>
                </c:pt>
                <c:pt idx="3">
                  <c:v>4.32</c:v>
                </c:pt>
                <c:pt idx="4">
                  <c:v>2.88</c:v>
                </c:pt>
                <c:pt idx="5">
                  <c:v>2.88</c:v>
                </c:pt>
                <c:pt idx="6">
                  <c:v>2.88</c:v>
                </c:pt>
                <c:pt idx="7">
                  <c:v>0</c:v>
                </c:pt>
                <c:pt idx="8">
                  <c:v>2.88</c:v>
                </c:pt>
                <c:pt idx="9">
                  <c:v>3.6</c:v>
                </c:pt>
                <c:pt idx="10">
                  <c:v>3.6</c:v>
                </c:pt>
                <c:pt idx="11">
                  <c:v>2.88</c:v>
                </c:pt>
                <c:pt idx="12">
                  <c:v>2.16</c:v>
                </c:pt>
                <c:pt idx="13">
                  <c:v>0.72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44416766"/>
        <c:axId val="96334437"/>
      </c:barChart>
      <c:catAx>
        <c:axId val="44416766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334437"/>
        <c:crossesAt val="0"/>
        <c:auto val="1"/>
        <c:lblAlgn val="ctr"/>
        <c:lblOffset val="100"/>
        <c:noMultiLvlLbl val="0"/>
      </c:catAx>
      <c:valAx>
        <c:axId val="963344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416766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F156C-551A-4A8C-A8B1-DB9DC2CABB7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88C11-3DDA-4DE9-A3FB-8934EEC3289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01A9-3B3C-4ED8-BD36-D2C3F94F8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8497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4920" y="4347720"/>
            <a:ext cx="8497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E033-01F8-45AC-8956-0DE46F860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4920" y="434772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9480" y="434772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DD2C-A5E3-452C-B1C9-7A0331066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220320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41240" y="220320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4920" y="434772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434772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41240" y="434772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9643-BCA4-47EB-B0A4-7FBA48CD9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79280" y="188640"/>
            <a:ext cx="705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94920" y="434772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5A54-931F-41BD-B7FB-25BF4C898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49480" y="434772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94920" y="4347720"/>
            <a:ext cx="8497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8497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94920" y="4347720"/>
            <a:ext cx="8497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94920" y="434772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49480" y="434772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68080" y="220320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41240" y="220320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94920" y="434772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68080" y="434772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41240" y="434772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C61D-D6A8-4BAE-B761-AADFEBB63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DAFF-3412-4A3F-9892-68EC00AA6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7409-B940-4864-9A3C-1630E2EEA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88640"/>
            <a:ext cx="705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9D08-8D9E-4C27-8FAB-4074AD407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4920" y="434772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ED48-5580-4637-B65F-581DF465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9480" y="434772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F51A-C682-45EA-B37C-D207FDE0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4347720"/>
            <a:ext cx="8497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A0A7-E006-4FFB-8BA4-22D6F538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98560" y="6435720"/>
            <a:ext cx="11620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2220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86920" y="6435720"/>
            <a:ext cx="53964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FB508-22E6-463A-A46F-8334630433B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chart" Target="../charts/chart4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chart" Target="../charts/chart5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chart" Target="../charts/chart6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chart" Target="../charts/chart7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chart" Target="../charts/chart8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chart" Target="../charts/chart9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57120" y="1196640"/>
            <a:ext cx="85010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EE LUIZ SOARES ANDRADE  NOVA ANDRADINA - 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94920" y="4500720"/>
            <a:ext cx="8497800" cy="20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UNIÃO SEMEST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VESPERTIN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ARÇO, ABRIL E MAI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OFESSORA ROSIMEIRE OLIVEI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MARÇ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Object 3"/>
          <p:cNvGraphicFramePr/>
          <p:nvPr/>
        </p:nvGraphicFramePr>
        <p:xfrm>
          <a:off x="500040" y="2214720"/>
          <a:ext cx="8118360" cy="287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29" name="CaixaDeTexto 5"/>
          <p:cNvSpPr/>
          <p:nvPr/>
        </p:nvSpPr>
        <p:spPr>
          <a:xfrm>
            <a:off x="1571760" y="5357880"/>
            <a:ext cx="50720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Object 4"/>
          <p:cNvGraphicFramePr/>
          <p:nvPr/>
        </p:nvGraphicFramePr>
        <p:xfrm>
          <a:off x="2428920" y="5143680"/>
          <a:ext cx="3811680" cy="1214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1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28920" y="5143680"/>
                    <a:ext cx="3811680" cy="12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2" name="Picture 4" descr=""/>
          <p:cNvPicPr/>
          <p:nvPr/>
        </p:nvPicPr>
        <p:blipFill>
          <a:blip r:embed="rId4"/>
          <a:stretch/>
        </p:blipFill>
        <p:spPr>
          <a:xfrm>
            <a:off x="6715080" y="5286240"/>
            <a:ext cx="169560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ABRI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Object 3"/>
          <p:cNvGraphicFramePr/>
          <p:nvPr/>
        </p:nvGraphicFramePr>
        <p:xfrm>
          <a:off x="357120" y="2214720"/>
          <a:ext cx="8101080" cy="287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36" name="CaixaDeTexto 5"/>
          <p:cNvSpPr/>
          <p:nvPr/>
        </p:nvSpPr>
        <p:spPr>
          <a:xfrm>
            <a:off x="2857680" y="5214960"/>
            <a:ext cx="35715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Object 4"/>
          <p:cNvGraphicFramePr/>
          <p:nvPr/>
        </p:nvGraphicFramePr>
        <p:xfrm>
          <a:off x="2428920" y="5143680"/>
          <a:ext cx="3811680" cy="1143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8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28920" y="5143680"/>
                    <a:ext cx="38116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9" name="Picture 4" descr=""/>
          <p:cNvPicPr/>
          <p:nvPr/>
        </p:nvPicPr>
        <p:blipFill>
          <a:blip r:embed="rId4"/>
          <a:stretch/>
        </p:blipFill>
        <p:spPr>
          <a:xfrm>
            <a:off x="6643800" y="5286240"/>
            <a:ext cx="16952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MAI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Object 3"/>
          <p:cNvGraphicFramePr/>
          <p:nvPr/>
        </p:nvGraphicFramePr>
        <p:xfrm>
          <a:off x="357120" y="2214720"/>
          <a:ext cx="8101080" cy="287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43" name="CaixaDeTexto 5"/>
          <p:cNvSpPr/>
          <p:nvPr/>
        </p:nvSpPr>
        <p:spPr>
          <a:xfrm>
            <a:off x="2428920" y="5357880"/>
            <a:ext cx="3643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Object 4"/>
          <p:cNvGraphicFramePr/>
          <p:nvPr/>
        </p:nvGraphicFramePr>
        <p:xfrm>
          <a:off x="2500200" y="5143680"/>
          <a:ext cx="3811680" cy="1214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0200" y="5143680"/>
                    <a:ext cx="3811680" cy="12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6" name="Picture 4" descr=""/>
          <p:cNvPicPr/>
          <p:nvPr/>
        </p:nvPicPr>
        <p:blipFill>
          <a:blip r:embed="rId4"/>
          <a:stretch/>
        </p:blipFill>
        <p:spPr>
          <a:xfrm>
            <a:off x="6715080" y="5357880"/>
            <a:ext cx="169560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NOTURN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85480" y="221436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ARÇO, ABRIL E MAI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OFESSOR ISMA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MARÇ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Object 3"/>
          <p:cNvGraphicFramePr/>
          <p:nvPr/>
        </p:nvGraphicFramePr>
        <p:xfrm>
          <a:off x="571680" y="2214720"/>
          <a:ext cx="8100720" cy="287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53" name="CaixaDeTexto 5"/>
          <p:cNvSpPr/>
          <p:nvPr/>
        </p:nvSpPr>
        <p:spPr>
          <a:xfrm>
            <a:off x="2643120" y="5286240"/>
            <a:ext cx="3929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4"/>
          <p:cNvGraphicFramePr/>
          <p:nvPr/>
        </p:nvGraphicFramePr>
        <p:xfrm>
          <a:off x="2500200" y="5143680"/>
          <a:ext cx="3811680" cy="1214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0200" y="5143680"/>
                    <a:ext cx="3811680" cy="12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6" name="Picture 4" descr=""/>
          <p:cNvPicPr/>
          <p:nvPr/>
        </p:nvPicPr>
        <p:blipFill>
          <a:blip r:embed="rId4"/>
          <a:stretch/>
        </p:blipFill>
        <p:spPr>
          <a:xfrm>
            <a:off x="6572160" y="5286240"/>
            <a:ext cx="169560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ABRI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Object 3"/>
          <p:cNvGraphicFramePr/>
          <p:nvPr/>
        </p:nvGraphicFramePr>
        <p:xfrm>
          <a:off x="500040" y="2214720"/>
          <a:ext cx="8101080" cy="287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60" name="CaixaDeTexto 5"/>
          <p:cNvSpPr/>
          <p:nvPr/>
        </p:nvSpPr>
        <p:spPr>
          <a:xfrm>
            <a:off x="3357720" y="5357880"/>
            <a:ext cx="3000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Object 4"/>
          <p:cNvGraphicFramePr/>
          <p:nvPr/>
        </p:nvGraphicFramePr>
        <p:xfrm>
          <a:off x="2428920" y="5143680"/>
          <a:ext cx="3811680" cy="1214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28920" y="5143680"/>
                    <a:ext cx="3811680" cy="12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3" name="Picture 4" descr=""/>
          <p:cNvPicPr/>
          <p:nvPr/>
        </p:nvPicPr>
        <p:blipFill>
          <a:blip r:embed="rId4"/>
          <a:stretch/>
        </p:blipFill>
        <p:spPr>
          <a:xfrm>
            <a:off x="6572160" y="5286240"/>
            <a:ext cx="169560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MAI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Object 3"/>
          <p:cNvGraphicFramePr/>
          <p:nvPr/>
        </p:nvGraphicFramePr>
        <p:xfrm>
          <a:off x="285840" y="2214720"/>
          <a:ext cx="8101080" cy="287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67" name="CaixaDeTexto 5"/>
          <p:cNvSpPr/>
          <p:nvPr/>
        </p:nvSpPr>
        <p:spPr>
          <a:xfrm>
            <a:off x="2286000" y="5357880"/>
            <a:ext cx="4286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4"/>
          <p:cNvGraphicFramePr/>
          <p:nvPr/>
        </p:nvGraphicFramePr>
        <p:xfrm>
          <a:off x="2428920" y="5143680"/>
          <a:ext cx="3811680" cy="1214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9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28920" y="5143680"/>
                    <a:ext cx="3811680" cy="12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0" name="Picture 4" descr=""/>
          <p:cNvPicPr/>
          <p:nvPr/>
        </p:nvPicPr>
        <p:blipFill>
          <a:blip r:embed="rId4"/>
          <a:stretch/>
        </p:blipFill>
        <p:spPr>
          <a:xfrm>
            <a:off x="6429240" y="5286240"/>
            <a:ext cx="169560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3- Identificação dos professores que usaram as tecnologias efetivamente no 1º semestre e os que não utilizaram e qual turno apresentou menos us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56760" y="1999800"/>
            <a:ext cx="8497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 u="sng">
                <a:solidFill>
                  <a:srgbClr val="000000"/>
                </a:solidFill>
                <a:uFillTx/>
                <a:latin typeface="Arial"/>
              </a:rPr>
              <a:t>Matut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Nunca utilizaram: (Quim/ Lit/ Fil/ Soc/ Ed. Rel/ Prod. Int/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ais utilizaram: ( His/ Ge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édia de aulas ociosas: 70,5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édia de aulas utilizadas: 29,4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 u="sng">
                <a:solidFill>
                  <a:srgbClr val="000000"/>
                </a:solidFill>
                <a:uFillTx/>
                <a:latin typeface="Arial"/>
              </a:rPr>
              <a:t>Vespert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Nunca utilizaram: ( Hist/ Fil/ Soc/ Ed. Rel/ Prod. I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ais utilizaram: (Ed. Fís/ Artes/ Port/ Ma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édia de aulas ociosas: 64,4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édia de aulas utilizadas: 35,59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 u="sng">
                <a:solidFill>
                  <a:srgbClr val="000000"/>
                </a:solidFill>
                <a:uFillTx/>
                <a:latin typeface="Arial"/>
              </a:rPr>
              <a:t>Noturn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Nunca utilizaram: ( Ed. Fís/ Geo/ Inglês/ Ciências/ Quim/ Fil/ Soc/ Ed. Rel./ Prod. I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ais utilizaram: (Artes / Fís/ L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édia de aulas ociosas: 49,71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édia de aulas utilizadas: 50,28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CaixaDeTexto 4"/>
          <p:cNvSpPr/>
          <p:nvPr/>
        </p:nvSpPr>
        <p:spPr>
          <a:xfrm>
            <a:off x="5214960" y="3214800"/>
            <a:ext cx="3571920" cy="5806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urno que apresentou menos uso: </a:t>
            </a:r>
            <a:r>
              <a:rPr b="0" lang="pt-BR" sz="1600" spc="-1" strike="noStrike" u="sng">
                <a:solidFill>
                  <a:srgbClr val="000000"/>
                </a:solidFill>
                <a:uFillTx/>
                <a:latin typeface="Arial"/>
              </a:rPr>
              <a:t>Matuti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LGUNS PONTOS PARA REFLETIR: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A comunicação entre PNTE e PSTE deve ser constante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Os e-mails devem ser lidos por todo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O MSN deve ficar ligado no período em que o Professor da STE estiver na sala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Os prazos deverão ser cumpridos, podendo ser alterado com justificativa prévia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OBJETIVO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70000"/>
              </a:lnSpc>
              <a:spcBef>
                <a:spcPts val="67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Apresentar alguns pontos que devem ser mudados para o bom andamento do trabalho na STE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0000"/>
              </a:lnSpc>
              <a:spcBef>
                <a:spcPts val="67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Apresentar as ações que foram desenvolvidas pelos professores multiplicadores (NTE – STE) no 1º semestre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0000"/>
              </a:lnSpc>
              <a:spcBef>
                <a:spcPts val="67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0000"/>
              </a:lnSpc>
              <a:spcBef>
                <a:spcPts val="67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Apresentar, analisar e refletir a respeito do uso da STE da escola no 1º semestre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0000"/>
              </a:lnSpc>
              <a:spcBef>
                <a:spcPts val="67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0000"/>
              </a:lnSpc>
              <a:spcBef>
                <a:spcPts val="67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Elaborar cronograma de ações dos professores da STE no 2º semestre para formação in loco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Será responsabilizado o profissional que não cumprir com suas atribuições (professor do NTE, STE e professores regentes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Será construído portfólio online das atividades desenvolvidas na STE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Todos os planos de aula dos professores deverão ser assinados pelo coordenador do turno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O professor com </a:t>
            </a:r>
            <a:r>
              <a:rPr b="0" lang="pt-BR" sz="3000" spc="-1" strike="noStrike">
                <a:solidFill>
                  <a:srgbClr val="66ff33"/>
                </a:solidFill>
                <a:latin typeface="Arial"/>
              </a:rPr>
              <a:t>20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horas, disponibilizará </a:t>
            </a:r>
            <a:r>
              <a:rPr b="0" lang="pt-BR" sz="3000" spc="-1" strike="noStrike">
                <a:solidFill>
                  <a:srgbClr val="66ff33"/>
                </a:solidFill>
                <a:latin typeface="Arial"/>
              </a:rPr>
              <a:t>18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aulas para ser usadas com professores e alunos e </a:t>
            </a:r>
            <a:r>
              <a:rPr b="0" lang="pt-BR" sz="3000" spc="-1" strike="noStrike">
                <a:solidFill>
                  <a:srgbClr val="66ff33"/>
                </a:solidFill>
                <a:latin typeface="Arial"/>
              </a:rPr>
              <a:t>4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aulas para planejamento junto aos coordenadores e professores regentes e </a:t>
            </a:r>
            <a:r>
              <a:rPr b="0" lang="pt-BR" sz="3000" spc="-1" strike="noStrike">
                <a:solidFill>
                  <a:srgbClr val="66ff33"/>
                </a:solidFill>
                <a:latin typeface="Arial"/>
              </a:rPr>
              <a:t>2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para pesquisa externa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O professor com </a:t>
            </a:r>
            <a:r>
              <a:rPr b="0" lang="pt-BR" sz="3000" spc="-1" strike="noStrike">
                <a:solidFill>
                  <a:srgbClr val="66ff33"/>
                </a:solidFill>
                <a:latin typeface="Arial"/>
              </a:rPr>
              <a:t>10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horas disponibilizará </a:t>
            </a:r>
            <a:r>
              <a:rPr b="0" lang="pt-BR" sz="3000" spc="-1" strike="noStrike">
                <a:solidFill>
                  <a:srgbClr val="66ff33"/>
                </a:solidFill>
                <a:latin typeface="Arial"/>
              </a:rPr>
              <a:t>9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aulas para ser usadas com professores e alunos e </a:t>
            </a:r>
            <a:r>
              <a:rPr b="0" lang="pt-BR" sz="3000" spc="-1" strike="noStrike">
                <a:solidFill>
                  <a:srgbClr val="66ff33"/>
                </a:solidFill>
                <a:latin typeface="Arial"/>
              </a:rPr>
              <a:t>2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para planejamento junto à coordenação e professores regentes e </a:t>
            </a:r>
            <a:r>
              <a:rPr b="0" lang="pt-BR" sz="3000" spc="-1" strike="noStrike">
                <a:solidFill>
                  <a:srgbClr val="66ff33"/>
                </a:solidFill>
                <a:latin typeface="Arial"/>
              </a:rPr>
              <a:t>1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para pesquisa externa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quadro de planejamento mensal do professor da STE deverá se adequar ao horário de atividades do professor regente, acompanhado pelos coordenador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da professor da STE deve ser responsável pelo preenchimento do relatório de utilização de seu turn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uso das mídias extern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Combinado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Quadro de PL do professor da STE de cada mês será elaborado 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mum acordo com a coordenação pedagógica e direção da escol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envio do quadro de PL e relatório será até o 5º dia útil de cada mê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turno que optar pelas aulas programadas, as mesmas deverão 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ncaminhadas ao NTE, no quadro de PL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té o 10º dia útil de cada mês o Professor do NTE se reunirá com 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fessores da STE para discutirem as ações desenvolvidas no mês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 previstas para o mês seguin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s planos de aula entregue pelos professores regentes devem est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rganizados em pasta, de forma cronológica e de fácil acesso, po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nsalmente o professor do NTE fará visita para conferir os relatóri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ão serão consideradas as aulas registradas sem 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lano do profess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da plano deve conter no máximo 2 aulas, mais 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sso é necessário projeto de ensin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rá elaborado portfólio on-line das atividades desenvolvid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a STE para orientações pedagógica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s prazos de atividades previstas, não justificadas e n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umpridas serão registradas em documento própri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 orientações serão feitas por e-mail ou pessoalmen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so o professor da STE seja questionado e não souber orientar 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fessores, os mesmos se comprometerão em buscar apoio junto a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fessor do N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s professores que receberem capacitação e não mostrarem interesse em ser capacitados assumirão as responsabilidad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da professor da STE se responsabilizará em fazer a relação dos professores que não utilizaram a STE no decorrer do mê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ffffff"/>
                </a:solidFill>
                <a:latin typeface="Arial"/>
              </a:rPr>
              <a:t>4 - Apresentar e discutir cronograma de ações NTE/STE para o 2º semestre de 2009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ronograma de ação do P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ronograma de ação do P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ronograma compl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sulte não a seus medos mas a suas esperanças e sonhos. Pense não sobre suas frustrações, mas sobre seu potencial não usado. Preocupe-se não com o que você tentou e falhou, mas com aquilo que ainda é possível a você fazer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( Papa João XXIII 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CaixaDeTexto 4"/>
          <p:cNvSpPr/>
          <p:nvPr/>
        </p:nvSpPr>
        <p:spPr>
          <a:xfrm>
            <a:off x="928800" y="28584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REFLEXÃO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ESTRUTURA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7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1. Apresentar as ações previstas, executadas e a executar pelos professores do NTE e STE no 1º semestre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2. Apresentar a realidade de uso da STE nos meses de março – abril – maio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3. Identificar os professores que usaram as tecnologias efetivamente no 1º semestre e os que não utilizaram e qual turno apresentou menos uso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4. Apresentar e discutir cronograma de ações NTE/STE para o 2º semestre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2560" y="142920"/>
            <a:ext cx="705636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1. Ações previstas, executadas e a executar pelos professores da STE no 1º semestre de 2009.</a:t>
            </a:r>
            <a:br>
              <a:rPr sz="40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ronograma do plano de ação - P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2. Realidade de uso da STE nos meses de março – abril – ma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MATUTIN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ARÇO, ABRIL E MAI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OFESSOR MÁRCIO REDIGO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MARÇ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3"/>
          <p:cNvGraphicFramePr/>
          <p:nvPr/>
        </p:nvGraphicFramePr>
        <p:xfrm>
          <a:off x="357120" y="2214720"/>
          <a:ext cx="8286840" cy="29289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105" name="Object 4"/>
          <p:cNvGraphicFramePr/>
          <p:nvPr/>
        </p:nvGraphicFramePr>
        <p:xfrm>
          <a:off x="2428920" y="5214960"/>
          <a:ext cx="3811680" cy="1165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6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28920" y="5214960"/>
                    <a:ext cx="3811680" cy="11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CaixaDeTexto 5"/>
          <p:cNvSpPr/>
          <p:nvPr/>
        </p:nvSpPr>
        <p:spPr>
          <a:xfrm>
            <a:off x="7072200" y="5286240"/>
            <a:ext cx="17146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aixaDeTexto 11"/>
          <p:cNvSpPr/>
          <p:nvPr/>
        </p:nvSpPr>
        <p:spPr>
          <a:xfrm>
            <a:off x="6429240" y="5572080"/>
            <a:ext cx="35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"/>
          <p:cNvPicPr/>
          <p:nvPr/>
        </p:nvPicPr>
        <p:blipFill>
          <a:blip r:embed="rId4"/>
          <a:stretch/>
        </p:blipFill>
        <p:spPr>
          <a:xfrm>
            <a:off x="6715080" y="5286240"/>
            <a:ext cx="169560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ABRI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3"/>
          <p:cNvGraphicFramePr/>
          <p:nvPr/>
        </p:nvGraphicFramePr>
        <p:xfrm>
          <a:off x="857160" y="2214720"/>
          <a:ext cx="7143840" cy="287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113" name="Object 4"/>
          <p:cNvGraphicFramePr/>
          <p:nvPr/>
        </p:nvGraphicFramePr>
        <p:xfrm>
          <a:off x="2643120" y="5143680"/>
          <a:ext cx="3811680" cy="1261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4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43120" y="5143680"/>
                    <a:ext cx="3811680" cy="12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5" name="Picture 7" descr=""/>
          <p:cNvPicPr/>
          <p:nvPr/>
        </p:nvPicPr>
        <p:blipFill>
          <a:blip r:embed="rId4"/>
          <a:stretch/>
        </p:blipFill>
        <p:spPr>
          <a:xfrm>
            <a:off x="6715080" y="5214960"/>
            <a:ext cx="169560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MAI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Object 3"/>
          <p:cNvGraphicFramePr/>
          <p:nvPr/>
        </p:nvGraphicFramePr>
        <p:xfrm>
          <a:off x="285840" y="2143080"/>
          <a:ext cx="8101080" cy="287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19" name="CaixaDeTexto 5"/>
          <p:cNvSpPr/>
          <p:nvPr/>
        </p:nvSpPr>
        <p:spPr>
          <a:xfrm>
            <a:off x="1071720" y="5072040"/>
            <a:ext cx="3929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Object 4"/>
          <p:cNvGraphicFramePr/>
          <p:nvPr/>
        </p:nvGraphicFramePr>
        <p:xfrm>
          <a:off x="2571840" y="5072040"/>
          <a:ext cx="3811320" cy="1235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1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71840" y="5072040"/>
                    <a:ext cx="381132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2" name="Picture 7" descr=""/>
          <p:cNvPicPr/>
          <p:nvPr/>
        </p:nvPicPr>
        <p:blipFill>
          <a:blip r:embed="rId4"/>
          <a:stretch/>
        </p:blipFill>
        <p:spPr>
          <a:xfrm>
            <a:off x="6643800" y="5286240"/>
            <a:ext cx="16952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9T14:15:31Z</dcterms:created>
  <dc:creator>Luciana Catarino</dc:creator>
  <dc:description/>
  <dc:language>en-US</dc:language>
  <cp:lastModifiedBy>Luciana Catarino</cp:lastModifiedBy>
  <dcterms:modified xsi:type="dcterms:W3CDTF">2009-07-11T01:13:56Z</dcterms:modified>
  <cp:revision>46</cp:revision>
  <dc:subject/>
  <dc:title>EE LUIZ SOARES ANDRADE  NOVA ANDRADINA - MS</dc:title>
</cp:coreProperties>
</file>